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A84-C968-40E0-A9E8-EC9196C7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333-FAAD-4055-935F-EBD9625F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C07-C797-46AE-963A-EDEECFA9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BBC-A7BA-43F8-B3AF-A861B5B8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F9A0-28D2-4183-9B93-706FE39A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010D-8076-4F42-B3C7-C4C9EBD6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5DEB-C38C-433A-B898-6E39DFEE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FCE7-5B9D-4052-A22D-A0CB073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C273-71FD-4C4A-860B-E5B6CE8D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F1B6-4F50-4311-853E-3A601F38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90F5-D67D-45F5-B11A-33C1240D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792-B098-4225-A310-4C307EA2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B367-F9CC-409F-9705-B2A0618F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CE11-3AB1-4EA9-B88A-4B32EB7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0B61-9818-463F-8D08-4324CF58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752E-DD66-41A2-AF43-0CD09B4F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63D0-9D40-40F5-A308-7046C300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AE8-2289-496B-A1D1-C7A12497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0DD-ABF0-4126-9579-44C7A3CE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26D-98CF-41FB-8A25-36F3E2F8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64A-13D1-43DD-BA8F-58C5405B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D01-8E72-493D-BD1F-EECE9C8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040-2099-4DD0-B4F8-615790C4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E4E-CF3C-4B38-80F1-4938B81F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C358-5FC7-4241-9613-CCFBDE5ED1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441-42A2-4E2E-97C9-1688B203D8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ности во временных зданиях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отребности строительства в кадрах,  во временных зданиях и сооружениях, жилье и социально-бытовом обслуживани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 производится исходя из наибольшего количества работающих на стройплощадке, определяемого на основании годовой стоимости СМР и среднегодовой выработки на одного работающего или на основании трудоемкости СМР. В результате работы программного модуля формируется перечень необходимых инвентарных зданий с обоснованием расчет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ов пояснительной записки ПОС и ППР в части обоснования потребности строительства в кадрах,  во временных зданиях и сооружениях, жилье и социально-бытовом обслуживани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896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потребности необходимо ввести участок строительства, задав его наименование, тип расчета потребности в кадрах, назначение объекта строительства и количество смен в течение дн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23960" y="102888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01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участка строитель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197320"/>
            <a:ext cx="7589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 вкладке «Потребность в кадрах» рассчитывается потребность строительства в кадрах в зависимости выбранного типа расчетов. На вкладке «Потребность во временных зданиях» формируется список необходимых потребностей на основании справочника видов назначений временных зданий и сооружений. На вкладке «Потребность в жилье и социально-бытовом обслуживании» формируется список необходимых потребностей на основании справочника назначений зданий и сооружений жилого и социально-бытового направл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441440" y="746280"/>
            <a:ext cx="6481800" cy="43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временных зданий и сооружений для участка строитель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7499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дбор осуществляется исходя из требуемых площадей на участке по определенным назначениям в ручном или автоматическом режиме. Выбор зданий и сооружений производится из соответствующего справочн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33440" y="1093680"/>
            <a:ext cx="692784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временных зданий и сооружений из справоч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49878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меется возможность задать дополнительные условия отображения данных в справочнике с учетом признака «Избранное» и наличия в зданиях площадей с необходимым назначени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033560" y="1600200"/>
            <a:ext cx="74581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потребности во временных здания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467080" y="1247760"/>
            <a:ext cx="47433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07:47:16Z</dcterms:modified>
  <cp:revision>276</cp:revision>
  <dc:subject/>
  <dc:title>Слайд 1</dc:title>
</cp:coreProperties>
</file>